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ldren%20wow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B19-7317-47E4-B65F-68B6F956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A4C-C406-4242-9BE0-7F84BF95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4D6-B27D-45DE-92B2-2666E80B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BBB-42E5-4CD0-AA99-9CDCB7FE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DFA-7FBF-45EB-8C95-B28CCA80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6B3-08AF-4C2E-9396-D45CD2F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02F-7833-4657-A5A3-86640BF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9C8-A70F-4A3F-8AB7-057DA8E0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6AE-469D-41EF-83C1-E51E6AE6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907-19C5-4EB3-B7CA-3F41137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545-2AB3-4DE8-9E45-4A56875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EF3-7A70-4A2B-A0F7-1800AED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68C9-0968-4BFA-B4ED-909EAAD56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children%20wow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hildren%20wow.wav"/><Relationship Id="rId12" Type="http://schemas.openxmlformats.org/officeDocument/2006/relationships/audio" Target="../media/children%20wow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hildren%20wow.wav"/><Relationship Id="rId12" Type="http://schemas.openxmlformats.org/officeDocument/2006/relationships/audio" Target="../media/children%20wow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0320" y="12463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       3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6120" y="12668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6 </a:t>
            </a:r>
            <a:r>
              <a:rPr b="0" lang="en-US" sz="54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84440" y="20750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0" lang="en-US" sz="5400" spc="-1" strike="noStrike">
                <a:solidFill>
                  <a:srgbClr val="ff0000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5720" y="203508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33560" y="300672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0480" y="300024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30320" y="12463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        4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6120" y="12668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2 </a:t>
            </a:r>
            <a:r>
              <a:rPr b="0" lang="en-US" sz="54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4440" y="20750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0 </a:t>
            </a:r>
            <a:r>
              <a:rPr b="0" lang="en-US" sz="5400" spc="-1" strike="noStrike">
                <a:solidFill>
                  <a:srgbClr val="ff0000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95720" y="203508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33560" y="300672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0480" y="300024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0080" y="2039760"/>
            <a:ext cx="45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       2,78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2280" y="21747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5880" y="206064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36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40200" y="21585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48160" y="3271680"/>
            <a:ext cx="5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8480" y="4011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400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35440" y="4008600"/>
            <a:ext cx="18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,8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9880" y="41115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17800" y="40953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63600" y="424620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00600" y="425736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508120" y="423684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49800" y="424944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039760"/>
            <a:ext cx="45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      1,6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2280" y="21747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85880" y="206064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6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0200" y="21585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09920" y="3271680"/>
            <a:ext cx="5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8480" y="4011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35440" y="4008600"/>
            <a:ext cx="18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,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09880" y="41115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917800" y="40953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08120" y="423684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49800" y="424944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7000" y="3255840"/>
            <a:ext cx="5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00080" y="2039760"/>
            <a:ext cx="45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         282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32280" y="2174760"/>
            <a:ext cx="232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206064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8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0200" y="21585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7760" y="3271680"/>
            <a:ext cx="5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8480" y="4011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5440" y="40086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7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9880" y="4111560"/>
            <a:ext cx="232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917800" y="40953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08120" y="423684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51440" y="424944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68760" y="3255840"/>
            <a:ext cx="18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, 1 – 10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3:44:26Z</dcterms:modified>
  <cp:revision>57</cp:revision>
  <dc:subject/>
  <dc:title>Slide 1</dc:title>
</cp:coreProperties>
</file>